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CDFF-DB65-4CF3-AA8B-37F017AB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2FE9-573C-41B6-A020-87C3C17F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C90-3218-4E9B-9686-EF632482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9E5-8C52-41E7-B513-E92ADC96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5BB-7BE0-471F-9E60-788D3001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94BC-17CB-4C87-8B89-5388CB0C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0540-29C4-45A4-A25C-6086BD82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5A9-ADEB-4E9A-A6C1-80036A87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F9F2-2F41-4663-BC7B-8BE89641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043F-6340-4B8D-8593-AA3721CB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A50-69C8-4D79-8682-366B1875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191-116C-48E5-974F-8458458A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2299-754F-4C02-80B8-59B370AAE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CO JOSÉ ROMERO MORE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IS LUQUE BERD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4 Marcador de contenido" descr="logo almanzora.jpg"/>
          <p:cNvPicPr/>
          <p:nvPr/>
        </p:nvPicPr>
        <p:blipFill>
          <a:blip r:embed="rId1"/>
          <a:stretch/>
        </p:blipFill>
        <p:spPr>
          <a:xfrm>
            <a:off x="2714760" y="500040"/>
            <a:ext cx="3429000" cy="871560"/>
          </a:xfrm>
          <a:prstGeom prst="rect">
            <a:avLst/>
          </a:prstGeom>
          <a:ln w="0">
            <a:noFill/>
          </a:ln>
        </p:spPr>
      </p:pic>
      <p:pic>
        <p:nvPicPr>
          <p:cNvPr id="43" name="5 Marcador de contenido" descr="foto fachada almanzora.jpg"/>
          <p:cNvPicPr/>
          <p:nvPr/>
        </p:nvPicPr>
        <p:blipFill>
          <a:blip r:embed="rId2"/>
          <a:stretch/>
        </p:blipFill>
        <p:spPr>
          <a:xfrm>
            <a:off x="2286000" y="1643040"/>
            <a:ext cx="4286160" cy="2776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e46c0a"/>
                </a:solidFill>
                <a:latin typeface="Calibri"/>
              </a:rPr>
              <a:t>ELEMENTOS ESTRUCTURALES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ac090"/>
                </a:solidFill>
                <a:latin typeface="Calibri"/>
              </a:rPr>
              <a:t>Organigrama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ac090"/>
                </a:solidFill>
                <a:latin typeface="Calibri"/>
              </a:rPr>
              <a:t>Org. Departament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ac090"/>
                </a:solidFill>
                <a:latin typeface="Calibri"/>
              </a:rPr>
              <a:t>Estructura formal de la or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ac090"/>
                </a:solidFill>
                <a:latin typeface="Calibri"/>
              </a:rPr>
              <a:t>Organigraf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ac090"/>
                </a:solidFill>
                <a:latin typeface="Calibri"/>
              </a:rPr>
              <a:t>Estructura y val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ac090"/>
                </a:solidFill>
                <a:latin typeface="Calibri"/>
              </a:rPr>
              <a:t>Outsorc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ORGANIGRAMA GENERA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5 Marcador de contenido" descr="organigrama funcional general.jpg"/>
          <p:cNvPicPr/>
          <p:nvPr/>
        </p:nvPicPr>
        <p:blipFill>
          <a:blip r:embed="rId1"/>
          <a:stretch/>
        </p:blipFill>
        <p:spPr>
          <a:xfrm>
            <a:off x="714240" y="1714680"/>
            <a:ext cx="746784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Calibri"/>
              </a:rPr>
              <a:t>ORGANIGRAMAS</a:t>
            </a: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6000" spc="-1" strike="noStrike">
                <a:solidFill>
                  <a:srgbClr val="000000"/>
                </a:solidFill>
                <a:latin typeface="Calibri"/>
              </a:rPr>
              <a:t>DEPARTAMENTAL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GERE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DMINISTRAC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EP. COMER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EP. LOGIS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.A.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ADMINISTR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69" name="_s28684"/>
            <p:cNvCxnSpPr>
              <a:stCxn id="70" idx="0"/>
              <a:endCxn id="71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28683"/>
            <p:cNvCxnSpPr>
              <a:stCxn id="73" idx="0"/>
              <a:endCxn id="71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28682"/>
            <p:cNvCxnSpPr>
              <a:stCxn id="75" idx="0"/>
              <a:endCxn id="71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28678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FE</a:t>
              </a:r>
              <a:br>
                <a:rPr sz="2100"/>
              </a:br>
              <a:r>
                <a:rPr b="0" lang="es-ES_tradnl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CIÓN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_s28679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XILIAR </a:t>
              </a:r>
              <a:br>
                <a:rPr sz="2100"/>
              </a:br>
              <a:r>
                <a:rPr b="0" lang="es-ES_tradnl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CIÓN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28680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XILIAR</a:t>
              </a:r>
              <a:br>
                <a:rPr sz="2100"/>
              </a:br>
              <a:r>
                <a:rPr b="0" lang="es-ES_tradnl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CIÓN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_s28681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ABLE</a:t>
              </a:r>
              <a:br>
                <a:rPr sz="2100"/>
              </a:br>
              <a:r>
                <a:rPr b="0" lang="es-ES_tradnl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A</a:t>
              </a:r>
              <a:br>
                <a:rPr sz="2100"/>
              </a:br>
              <a:r>
                <a:rPr b="0" lang="es-ES_tradnl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IDAD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DEP. COMERC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57200" y="1600200"/>
            <a:ext cx="4038120" cy="4524480"/>
            <a:chOff x="457200" y="1600200"/>
            <a:chExt cx="4038120" cy="4524480"/>
          </a:xfrm>
        </p:grpSpPr>
        <p:cxnSp>
          <p:nvCxnSpPr>
            <p:cNvPr id="78" name="_s31757"/>
            <p:cNvCxnSpPr>
              <a:stCxn id="79" idx="0"/>
              <a:endCxn id="80" idx="2"/>
            </p:cNvCxnSpPr>
            <p:nvPr/>
          </p:nvCxnSpPr>
          <p:spPr>
            <a:xfrm flipV="1" rot="16200000">
              <a:off x="2730240" y="3154680"/>
              <a:ext cx="905400" cy="141408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31756"/>
            <p:cNvCxnSpPr>
              <a:stCxn id="82" idx="0"/>
              <a:endCxn id="80" idx="2"/>
            </p:cNvCxnSpPr>
            <p:nvPr/>
          </p:nvCxnSpPr>
          <p:spPr>
            <a:xfrm flipV="1">
              <a:off x="2476440" y="3409200"/>
              <a:ext cx="2160" cy="90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31755"/>
            <p:cNvCxnSpPr>
              <a:stCxn id="84" idx="0"/>
              <a:endCxn id="80" idx="2"/>
            </p:cNvCxnSpPr>
            <p:nvPr/>
          </p:nvCxnSpPr>
          <p:spPr>
            <a:xfrm flipH="1" flipV="1" rot="5400000">
              <a:off x="1316880" y="3155040"/>
              <a:ext cx="905400" cy="1414080"/>
            </a:xfrm>
            <a:prstGeom prst="bentConnector3">
              <a:avLst>
                <a:gd name="adj1" fmla="val 128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0" name="_s31751"/>
            <p:cNvSpPr/>
            <p:nvPr/>
          </p:nvSpPr>
          <p:spPr>
            <a:xfrm>
              <a:off x="1870560" y="1600200"/>
              <a:ext cx="1211400" cy="1809720"/>
            </a:xfrm>
            <a:custGeom>
              <a:avLst/>
              <a:gdLst>
                <a:gd name="textAreaLeft" fmla="*/ 59040 w 1211400"/>
                <a:gd name="textAreaRight" fmla="*/ 1152360 w 1211400"/>
                <a:gd name="textAreaTop" fmla="*/ 59040 h 1809720"/>
                <a:gd name="textAreaBottom" fmla="*/ 1750680 h 1809720"/>
              </a:gdLst>
              <a:ahLst/>
              <a:rect l="textAreaLeft" t="textAreaTop" r="textAreaRight" b="textAreaBottom"/>
              <a:pathLst>
                <a:path w="21600" h="32265">
                  <a:moveTo>
                    <a:pt x="3600" y="0"/>
                  </a:moveTo>
                  <a:arcTo wR="3600" hR="3600" stAng="16200000" swAng="-5400000"/>
                  <a:lnTo>
                    <a:pt x="0" y="28665"/>
                  </a:lnTo>
                  <a:arcTo wR="3600" hR="3600" stAng="10800000" swAng="-5400000"/>
                  <a:lnTo>
                    <a:pt x="18000" y="322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FE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E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NT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_s31752"/>
            <p:cNvSpPr/>
            <p:nvPr/>
          </p:nvSpPr>
          <p:spPr>
            <a:xfrm>
              <a:off x="457200" y="4314960"/>
              <a:ext cx="1211400" cy="1809720"/>
            </a:xfrm>
            <a:custGeom>
              <a:avLst/>
              <a:gdLst>
                <a:gd name="textAreaLeft" fmla="*/ 59040 w 1211400"/>
                <a:gd name="textAreaRight" fmla="*/ 1152360 w 1211400"/>
                <a:gd name="textAreaTop" fmla="*/ 59040 h 1809720"/>
                <a:gd name="textAreaBottom" fmla="*/ 1750680 h 1809720"/>
              </a:gdLst>
              <a:ahLst/>
              <a:rect l="textAreaLeft" t="textAreaTop" r="textAreaRight" b="textAreaBottom"/>
              <a:pathLst>
                <a:path w="21600" h="32265">
                  <a:moveTo>
                    <a:pt x="3600" y="0"/>
                  </a:moveTo>
                  <a:arcTo wR="3600" hR="3600" stAng="16200000" swAng="-5400000"/>
                  <a:lnTo>
                    <a:pt x="0" y="28665"/>
                  </a:lnTo>
                  <a:arcTo wR="3600" hR="3600" stAng="10800000" swAng="-5400000"/>
                  <a:lnTo>
                    <a:pt x="18000" y="322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XILIAR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ERCIAL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2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_s31753"/>
            <p:cNvSpPr/>
            <p:nvPr/>
          </p:nvSpPr>
          <p:spPr>
            <a:xfrm>
              <a:off x="1870560" y="4314960"/>
              <a:ext cx="1211400" cy="1809720"/>
            </a:xfrm>
            <a:custGeom>
              <a:avLst/>
              <a:gdLst>
                <a:gd name="textAreaLeft" fmla="*/ 59040 w 1211400"/>
                <a:gd name="textAreaRight" fmla="*/ 1152360 w 1211400"/>
                <a:gd name="textAreaTop" fmla="*/ 59040 h 1809720"/>
                <a:gd name="textAreaBottom" fmla="*/ 1750680 h 1809720"/>
              </a:gdLst>
              <a:ahLst/>
              <a:rect l="textAreaLeft" t="textAreaTop" r="textAreaRight" b="textAreaBottom"/>
              <a:pathLst>
                <a:path w="21600" h="32265">
                  <a:moveTo>
                    <a:pt x="3600" y="0"/>
                  </a:moveTo>
                  <a:arcTo wR="3600" hR="3600" stAng="16200000" swAng="-5400000"/>
                  <a:lnTo>
                    <a:pt x="0" y="28665"/>
                  </a:lnTo>
                  <a:arcTo wR="3600" hR="3600" stAng="10800000" swAng="-5400000"/>
                  <a:lnTo>
                    <a:pt x="18000" y="322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XILIAR 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KETING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2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_s31754"/>
            <p:cNvSpPr/>
            <p:nvPr/>
          </p:nvSpPr>
          <p:spPr>
            <a:xfrm>
              <a:off x="3283920" y="4314960"/>
              <a:ext cx="1211400" cy="1809720"/>
            </a:xfrm>
            <a:custGeom>
              <a:avLst/>
              <a:gdLst>
                <a:gd name="textAreaLeft" fmla="*/ 59040 w 1211400"/>
                <a:gd name="textAreaRight" fmla="*/ 1152360 w 1211400"/>
                <a:gd name="textAreaTop" fmla="*/ 59040 h 1809720"/>
                <a:gd name="textAreaBottom" fmla="*/ 1750680 h 1809720"/>
              </a:gdLst>
              <a:ahLst/>
              <a:rect l="textAreaLeft" t="textAreaTop" r="textAreaRight" b="textAreaBottom"/>
              <a:pathLst>
                <a:path w="21600" h="32265">
                  <a:moveTo>
                    <a:pt x="3600" y="0"/>
                  </a:moveTo>
                  <a:arcTo wR="3600" hR="3600" stAng="16200000" swAng="-5400000"/>
                  <a:lnTo>
                    <a:pt x="0" y="28665"/>
                  </a:lnTo>
                  <a:arcTo wR="3600" hR="3600" stAng="10800000" swAng="-5400000"/>
                  <a:lnTo>
                    <a:pt x="18000" y="322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LEGADO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ERCIAL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8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651640" y="2276640"/>
            <a:ext cx="2403000" cy="2907000"/>
            <a:chOff x="5651640" y="2276640"/>
            <a:chExt cx="2403000" cy="2907000"/>
          </a:xfrm>
        </p:grpSpPr>
        <p:cxnSp>
          <p:nvCxnSpPr>
            <p:cNvPr id="86" name="_s31766"/>
            <p:cNvCxnSpPr>
              <a:stCxn id="87" idx="0"/>
              <a:endCxn id="88" idx="2"/>
            </p:cNvCxnSpPr>
            <p:nvPr/>
          </p:nvCxnSpPr>
          <p:spPr>
            <a:xfrm flipV="1">
              <a:off x="6852960" y="3438720"/>
              <a:ext cx="3600" cy="582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8" name="_s31761"/>
            <p:cNvSpPr/>
            <p:nvPr/>
          </p:nvSpPr>
          <p:spPr>
            <a:xfrm>
              <a:off x="5651640" y="2276640"/>
              <a:ext cx="2403000" cy="11628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FE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RA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_s31763"/>
            <p:cNvSpPr/>
            <p:nvPr/>
          </p:nvSpPr>
          <p:spPr>
            <a:xfrm>
              <a:off x="5651640" y="4020840"/>
              <a:ext cx="2403000" cy="1162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XILIAR 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RAS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2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DEP. LOGIS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31640" y="1585800"/>
            <a:ext cx="8208720" cy="4462560"/>
            <a:chOff x="431640" y="1585800"/>
            <a:chExt cx="8208720" cy="4462560"/>
          </a:xfrm>
        </p:grpSpPr>
        <p:cxnSp>
          <p:nvCxnSpPr>
            <p:cNvPr id="91" name="_s34832"/>
            <p:cNvCxnSpPr>
              <a:stCxn id="92" idx="0"/>
              <a:endCxn id="93" idx="2"/>
            </p:cNvCxnSpPr>
            <p:nvPr/>
          </p:nvCxnSpPr>
          <p:spPr>
            <a:xfrm flipV="1" rot="16200000">
              <a:off x="5685480" y="2220120"/>
              <a:ext cx="893160" cy="31928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34830"/>
            <p:cNvCxnSpPr>
              <a:stCxn id="95" idx="0"/>
              <a:endCxn id="93" idx="2"/>
            </p:cNvCxnSpPr>
            <p:nvPr/>
          </p:nvCxnSpPr>
          <p:spPr>
            <a:xfrm flipV="1" rot="16200000">
              <a:off x="4621320" y="3284280"/>
              <a:ext cx="893160" cy="1064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34829"/>
            <p:cNvCxnSpPr>
              <a:stCxn id="97" idx="0"/>
              <a:endCxn id="93" idx="2"/>
            </p:cNvCxnSpPr>
            <p:nvPr/>
          </p:nvCxnSpPr>
          <p:spPr>
            <a:xfrm flipH="1" flipV="1" rot="5400000">
              <a:off x="3558600" y="3285360"/>
              <a:ext cx="893160" cy="10623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34828"/>
            <p:cNvCxnSpPr>
              <a:stCxn id="99" idx="0"/>
              <a:endCxn id="93" idx="2"/>
            </p:cNvCxnSpPr>
            <p:nvPr/>
          </p:nvCxnSpPr>
          <p:spPr>
            <a:xfrm flipH="1" flipV="1" rot="5400000">
              <a:off x="2493360" y="2220120"/>
              <a:ext cx="893160" cy="31932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3" name="_s34824"/>
            <p:cNvSpPr/>
            <p:nvPr/>
          </p:nvSpPr>
          <p:spPr>
            <a:xfrm>
              <a:off x="3624120" y="158580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FE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E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LMACEN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_s34825"/>
            <p:cNvSpPr/>
            <p:nvPr/>
          </p:nvSpPr>
          <p:spPr>
            <a:xfrm>
              <a:off x="431640" y="426348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STRADOR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2)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_s34826"/>
            <p:cNvSpPr/>
            <p:nvPr/>
          </p:nvSpPr>
          <p:spPr>
            <a:xfrm>
              <a:off x="2559600" y="426348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QUETERIA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3)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_s34827"/>
            <p:cNvSpPr/>
            <p:nvPr/>
          </p:nvSpPr>
          <p:spPr>
            <a:xfrm>
              <a:off x="4687920" y="426348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EDICONES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2)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_s34831"/>
            <p:cNvSpPr/>
            <p:nvPr/>
          </p:nvSpPr>
          <p:spPr>
            <a:xfrm>
              <a:off x="6816240" y="426348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ARTIDORES</a:t>
              </a:r>
              <a:br>
                <a:rPr sz="1500"/>
              </a:b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2)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S.A.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102" name="_s36878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36877"/>
            <p:cNvCxnSpPr>
              <a:stCxn id="106" idx="0"/>
              <a:endCxn id="104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36872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OR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T-VENT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36874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XILIAR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T-VEN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_s36875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ÉCNICO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X3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46c0a"/>
                </a:solidFill>
                <a:latin typeface="Calibri"/>
              </a:rPr>
              <a:t>ANÁLISIS DESCRIPTIV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c090"/>
                </a:solidFill>
                <a:latin typeface="Calibri"/>
              </a:rPr>
              <a:t>Histori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c090"/>
                </a:solidFill>
                <a:latin typeface="Calibri"/>
              </a:rPr>
              <a:t>Actividades de la empres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ac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c090"/>
                </a:solidFill>
                <a:latin typeface="Calibri"/>
              </a:rPr>
              <a:t>Características de la Empres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ISTORI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Fundada en </a:t>
            </a:r>
            <a:r>
              <a:rPr b="0" lang="es-ES" sz="2500" spc="-1" strike="noStrike">
                <a:solidFill>
                  <a:srgbClr val="ff0000"/>
                </a:solidFill>
                <a:latin typeface="Calibri"/>
              </a:rPr>
              <a:t>1957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como TRANER, S.L., por Luís Pérez en Valenc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En </a:t>
            </a:r>
            <a:r>
              <a:rPr b="0" lang="es-ES" sz="2500" spc="-1" strike="noStrike">
                <a:solidFill>
                  <a:srgbClr val="ff0000"/>
                </a:solidFill>
                <a:latin typeface="Calibri"/>
              </a:rPr>
              <a:t>1965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se establece TRANER, S.L. en Linar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En </a:t>
            </a:r>
            <a:r>
              <a:rPr b="0" lang="es-ES" sz="2500" spc="-1" strike="noStrike">
                <a:solidFill>
                  <a:srgbClr val="ff0000"/>
                </a:solidFill>
                <a:latin typeface="Calibri"/>
              </a:rPr>
              <a:t>1968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se comienzan a visitar las provincias de Córdoba y C.Real, ante la creciente demanda del merca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En </a:t>
            </a:r>
            <a:r>
              <a:rPr b="0" lang="es-ES" sz="2500" spc="-1" strike="noStrike">
                <a:solidFill>
                  <a:srgbClr val="ff0000"/>
                </a:solidFill>
                <a:latin typeface="Calibri"/>
              </a:rPr>
              <a:t>1976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pasa a denominarse DISMAN LINARES, S.L., fundada por José  Lorenzo y  Luís Pérez Martínez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En </a:t>
            </a:r>
            <a:r>
              <a:rPr b="0" lang="es-ES" sz="2500" spc="-1" strike="noStrike">
                <a:solidFill>
                  <a:srgbClr val="ff0000"/>
                </a:solidFill>
                <a:latin typeface="Calibri"/>
              </a:rPr>
              <a:t>1979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se crea SUMISUR, S.L., primera delegación dependiente de Linar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ISTORI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1984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e vió  la necesidad de operar bajo una estructura empresarial más compleja. Por ello se decidió abrir una nueva empresa ,RODAMIENTOS ALMANZORA, S.L, concesionario </a:t>
            </a:r>
            <a:r>
              <a:rPr b="0" lang="en-US" sz="2700" spc="-1" strike="noStrike">
                <a:solidFill>
                  <a:srgbClr val="c0504d"/>
                </a:solidFill>
                <a:latin typeface="Calibri"/>
              </a:rPr>
              <a:t>SKF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que aglutinó toda la experiencia y medios con que contaba hasta ese moment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1988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e constituye DISMAN LA MANCHA S.L en Puertollano, segunda delegación dependiente de Lina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1995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se establece ALMANZORA CORDOBA, S.L.,concesionario </a:t>
            </a:r>
            <a:r>
              <a:rPr b="0" lang="en-US" sz="2700" spc="-1" strike="noStrike">
                <a:solidFill>
                  <a:srgbClr val="c0504d"/>
                </a:solidFill>
                <a:latin typeface="Calibri"/>
              </a:rPr>
              <a:t>SKF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para atender las demandas de mercado de la provincia de Córdob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CTIVIDAD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manzora comercializa componentes, maquinaria y productos en general, dirigidos al mantenimiento y producción en industrias y servic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fase de distribución de Almanzora consta de tres puntos básicos, que son: Compra de materiales, almacenamiento y ven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OMPRA DE MATERIA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manzora solicita a sus proveedores los materiales que sus propios clientes demandan; se realiza el pedido, generalmente por vía telefónica, siendo transportado el material hasta Almanzora, mediante una agencia de transpor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MACEN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 vez recibido el pedido, se comprueba que el material solicitado al proveedor coincide con el que se ha recibido, posteriormente se procede a etiquetar el producto, para ser colocado finalmente en su correspondiente ubicació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n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manzora vende su producto principalmente de dos forma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 mostrador, el cliente acude directamente a la empresa y solicita lo que pretende comprar, y le es entregado en el mom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r otro lado, el cliente también puede llamar por teléfono, y el departamento de ventas tomará nota del pedido, que posteriormente se preparará en paquetería, y será enviado al cliente mediante una empresa de transportes contratada por Almanzor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ARACTERISTICA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ta empresa pertenece a un amplio grupo, dedicado al sector del suministro industrial. Algunas de estas empresas son: Sumisur, Disman La Mancha, Eurotor, et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manzora puede considerarse una empresa mediana, que se dedica a comprar a otras empresas que actúan como proveedores, para posteriormente vender tanto a particulares, como a otras empresas que actúan como clientes, es decir un proceso de compra-vent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no de los principales objetivos de Almanzora, es el de conseguir que los técnicos comerciales, se conviertan en consultores de negocio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9:10:15Z</dcterms:created>
  <dc:creator>Carlos</dc:creator>
  <dc:description/>
  <dc:language>en-US</dc:language>
  <cp:lastModifiedBy>Bj</cp:lastModifiedBy>
  <dcterms:modified xsi:type="dcterms:W3CDTF">2009-04-28T11:45:43Z</dcterms:modified>
  <cp:revision>18</cp:revision>
  <dc:subject/>
  <dc:title>Diapositiva 1</dc:title>
</cp:coreProperties>
</file>